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9D5-4C83-4B1D-82C0-B5117241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707-ABF5-4192-A68E-AB7F27F4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71F-FA9A-4256-B4B8-3A018BED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819-51BD-49C9-AE00-618CD83A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752-6937-4D8E-863C-A9F354F6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ADA-E30B-490C-94C3-DF8424DF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243-FCD5-4C81-9E7F-67C5EDD4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069-FFD7-40B5-B896-90163FF4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72A-4ED0-4E61-9FA8-7F85D05B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DE3-BCEB-4738-AA97-564572E0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FF6-7552-4555-859B-AAF5189F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A03-E6CA-4A2C-BD25-63A5D1DC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4E9B-83CA-49D2-853F-E3EEB0CFAF3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magensde.com.br/imagens/fotos/paisagens-xxxvii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magensde.com.br/imagens/fotos/paisagens-xxxi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magensde.com.br/imagens/fotos/paisagens-x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magensde.com.br/imagens/fotos/paisagens-xxx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aisagens-xxxvi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7000"/>
            <a:ext cx="11306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9999"/>
                </a:solidFill>
                <a:latin typeface="Arial"/>
              </a:rPr>
              <a:t>Monte Cast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Legião Urb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paisagens-xxx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3050640" y="2133000"/>
            <a:ext cx="52603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Ainda que eu falass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A língua dos homens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E falasse a língua dos anjos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Sem amor, eu nada seria</a:t>
            </a:r>
            <a:r>
              <a:rPr b="0" lang="pt-BR" sz="1800" spc="-1" strike="noStrike">
                <a:solidFill>
                  <a:srgbClr val="bbe0e3"/>
                </a:solidFill>
                <a:latin typeface="Arial"/>
              </a:rPr>
              <a:t>..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aisagens Paisage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10585440" cy="6921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2923920" y="2026440"/>
            <a:ext cx="57081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É só o amor, é só o amor</a:t>
            </a:r>
            <a:br>
              <a:rPr sz="32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Que conhece o que é verdade</a:t>
            </a:r>
            <a:br>
              <a:rPr sz="32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O amor é bom, não quer o mal</a:t>
            </a:r>
            <a:br>
              <a:rPr sz="32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Não sente inveja</a:t>
            </a:r>
            <a:br>
              <a:rPr sz="32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Ou se envaide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aisagens Fotos De Paisage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900000" y="-458640"/>
            <a:ext cx="11771280" cy="8748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3349440" y="3380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276720" y="503640"/>
            <a:ext cx="6188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O amor é o fogo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Que arde sem se ver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É ferida que dói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E não se sent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É um contentamento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Descontent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É dor que desatina sem doer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aisagens Imagens De Paisagens Em Papel De Parede"/>
          <p:cNvPicPr/>
          <p:nvPr/>
        </p:nvPicPr>
        <p:blipFill>
          <a:blip r:embed="rId1"/>
          <a:stretch/>
        </p:blipFill>
        <p:spPr>
          <a:xfrm>
            <a:off x="0" y="-736560"/>
            <a:ext cx="10015560" cy="8194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995280" y="844920"/>
            <a:ext cx="526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Ainda que eu falass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A língua dos homens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E falasse a língua dos anjos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Sem amor, eu nada seria..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aisagens-xxxii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3323520" y="1189440"/>
            <a:ext cx="4289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não querer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is que bem querer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solitário andar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entre a gente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não contentar-se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 contente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cuidar que se gan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se perder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79640" y="6857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aisagens-viii"/>
          <p:cNvPicPr/>
          <p:nvPr/>
        </p:nvPicPr>
        <p:blipFill>
          <a:blip r:embed="rId1"/>
          <a:stretch/>
        </p:blipFill>
        <p:spPr>
          <a:xfrm>
            <a:off x="-541440" y="0"/>
            <a:ext cx="100821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3637800" y="979920"/>
            <a:ext cx="5507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É um estar-se preso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Por vontad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É servir a quem venc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O vencedor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É um ter com quem nos mata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A lealdad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Tão contrário a si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É o mesmo amor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aisagens-ii"/>
          <p:cNvPicPr/>
          <p:nvPr/>
        </p:nvPicPr>
        <p:blipFill>
          <a:blip r:embed="rId1"/>
          <a:stretch/>
        </p:blipFill>
        <p:spPr>
          <a:xfrm>
            <a:off x="-900000" y="-27000"/>
            <a:ext cx="10044000" cy="7397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2846160" y="321120"/>
            <a:ext cx="598248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Estou acordado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E todos dormem, todos dormem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Todos dormem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Agora vejo em part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Mas então veremos face a fac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É só o amor, é só o amor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Que conhece o que é verdade..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Ainda que eu falass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A língua dos homens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E falasse a língua dos anjos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Sem amor, eu nada seria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3:51:07Z</dcterms:created>
  <dc:creator>SEDMS</dc:creator>
  <dc:description/>
  <dc:language>en-US</dc:language>
  <cp:lastModifiedBy>ACER</cp:lastModifiedBy>
  <dcterms:modified xsi:type="dcterms:W3CDTF">2010-10-19T21:53:49Z</dcterms:modified>
  <cp:revision>2</cp:revision>
  <dc:subject/>
  <dc:title>Benedita</dc:title>
</cp:coreProperties>
</file>